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9B9-70F9-4BBB-8DA1-3C0FD2E6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24F-9C27-42F6-B884-3E0251A1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325-CC3A-4841-9958-812211D6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7D1-839D-478A-9B9B-0BAB663D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A18-84C2-4E74-80A7-1CB8F836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DE5-F5ED-4697-8644-D7247547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0FB-3476-4FC4-BC14-FEDEEB61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66D-2FDA-44AF-909D-B9C70FC1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F7D-66C6-49FB-BD18-1C3AC682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F67-025E-469E-8BFD-540257EC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0F0-A6C4-41FE-9B69-C93149A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A7E-7A92-44B4-8D20-B2970217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A78D-1EA7-42B7-9239-F13F67939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determin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48360" y="4508640"/>
            <a:ext cx="424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429000"/>
            <a:ext cx="69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determining</a:t>
            </a:r>
            <a:r>
              <a:rPr b="1" lang="en-NZ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which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53006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that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557360"/>
            <a:ext cx="57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, that, these, those,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ll, each, every, both, few, one,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0:32:20Z</dcterms:modified>
  <cp:revision>26</cp:revision>
  <dc:subject/>
  <dc:title>Simile</dc:title>
</cp:coreProperties>
</file>